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7FB-88BD-4505-8159-283C16EE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6C7-A7BE-43F9-B1CA-E460164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893-F5C9-42C3-8ADE-353AF1EC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E67-8A8C-47C8-A8B6-9D42BD1A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75A2-AF6F-45A3-9757-EC1E85E8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336C-27A8-4349-8E73-B604E4D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992A-4312-46A7-A57A-1D0E51FC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D2A-FAE9-41B3-806F-A40A6C21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F857-3C51-4F75-9C3E-962AC085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7044-3C8D-469F-8011-43CDD18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8481-CFD5-4205-8163-BC5A468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95F-83B6-447D-A068-382EDD0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D7D5-990D-42EF-8B08-73C023D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A0F-3AD6-452A-AC43-9563436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B8F2-095A-4DD0-82E6-AFECDF4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4F8-0346-480F-B216-C599EDB8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BC9F-D5DA-4C9C-9B67-CDC17954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73D-6440-4725-AE6D-78A9E03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1C5-4FE3-4AE0-B74F-5B7F19B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C46-3557-4FC4-90BE-F1B3E55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C84-99E7-4E70-8408-7A0A1C31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AFE-2D27-4205-9BE9-FB3625E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970-2291-443A-99D3-0DF6F20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166-5941-4A48-9C54-8F62568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24C-4E01-444B-8487-8A55B7C4A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B64-862C-47A1-8EA9-37BEE5F91D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bc.com/saturday-night-live/video/clips/theodoric-of-york/2888/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dical Practition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e of the Sic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ng gro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hea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caries (Pharmaci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e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628" t="2190" r="0" b="0"/>
          <a:stretch/>
        </p:blipFill>
        <p:spPr>
          <a:xfrm>
            <a:off x="4267080" y="3276720"/>
            <a:ext cx="3221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th Heal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&amp; Evil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Disorders- actually help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rg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dvanced research in medic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 or more prescribed drugs per single pr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bloodletting was more effective in speeding patients to their gra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loodlet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Blo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Physicians and Apothec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of good h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Humors: 1)Leeches 2)Liver 3)Arteries 4)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doric of York-SNL s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bc.com/saturday-night-live/video/clips/theodoric-of-york/2888/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ge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more progress than other medical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le to butchers and barb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u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l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rrible screams of people whose limbs were being sawed off echoed across the battle fields and through hospital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8720" y="2055960"/>
            <a:ext cx="28576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dw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 Hu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good as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3:59:01Z</dcterms:created>
  <dc:creator>MNS</dc:creator>
  <dc:description/>
  <dc:language>en-US</dc:language>
  <cp:lastModifiedBy>MNS</cp:lastModifiedBy>
  <dcterms:modified xsi:type="dcterms:W3CDTF">2009-12-07T15:07:14Z</dcterms:modified>
  <cp:revision>5</cp:revision>
  <dc:subject/>
  <dc:title>Medical Practioners</dc:title>
</cp:coreProperties>
</file>